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50298"/>
        <c:axId val="10020541"/>
      </c:barChart>
      <c:catAx>
        <c:axId val="31450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0541"/>
        <c:crosses val="autoZero"/>
        <c:auto val="1"/>
        <c:lblAlgn val="ctr"/>
        <c:lblOffset val="100"/>
        <c:noMultiLvlLbl val="0"/>
      </c:catAx>
      <c:valAx>
        <c:axId val="10020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50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D7F-6F3D-4153-82C1-D2AF518D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F4F-1516-470B-A86D-7FD277D8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783-6090-4297-81EC-4CACB16A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5BB-22D4-47FF-8A7F-F2666F80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ED7-00CE-424A-9FFE-F97DFEE1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F42-480A-4C6F-8714-79E56B85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339-831C-4622-BEA2-06F52781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612-D850-4DB4-9F77-1E4BA407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087-5547-4FA5-BA0B-DDF6DC6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431-1733-4517-9502-B641701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35D-05F9-4B03-9EB5-BE216EC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B7E-8C8B-4032-BCA3-9610E98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D264E-65C7-4BA7-92A7-960662E64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