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58009"/>
        <c:axId val="11266690"/>
      </c:barChart>
      <c:catAx>
        <c:axId val="67358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6690"/>
        <c:crosses val="autoZero"/>
        <c:auto val="1"/>
        <c:lblAlgn val="ctr"/>
        <c:lblOffset val="100"/>
        <c:noMultiLvlLbl val="0"/>
      </c:catAx>
      <c:valAx>
        <c:axId val="11266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8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358-5F55-439E-8433-70C6E640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456-8842-4CD5-A0A2-0D8F8A4A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1BC-8F28-4ACA-97C8-EC3F7395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D3F-3196-4B8A-B98D-919D6CF0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421-66E1-4289-84CF-18E9349F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695-678E-41DA-8AF5-FE14FA3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C74-A665-4A11-8193-AEC970B6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BF3-7EF7-405D-853A-620105B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860-63A3-494D-B484-9AE7ABF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8E2-9A10-4F11-BC51-8BAACD03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F81-A987-494A-B1F0-AB02C2F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9C9-F8FA-4359-8E8E-4DDC910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28EFA-918C-4159-8604-7882608F51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